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8E2-0DB9-47EF-8A88-18E9A6B8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F68-89F8-42AA-8D0A-89047F09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87F9D-5E61-4DCF-BD62-53A89FB0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E0B24-CB26-475D-8D51-D7F16DF0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AA9BE-A183-46A1-8980-A3E134DE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9EC50-9B67-4E1F-BD67-EABB354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C9191-C3AA-421E-8095-98BB51EE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8B2A3-A3F1-4BFB-B6F2-D7E90D0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AF329-F28A-4102-9C04-41A6DF8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901AD-BB34-406A-9C07-89955710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72C2E-3983-4667-9441-D91EDF4A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A36-9017-4DB2-8B99-CF466692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D3B-9D54-468E-991C-399C3311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3A3D-CFB0-4ADC-9524-ABBD9A00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0971-3734-435E-BFB3-47B56918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4FBE-7024-4B85-BFC9-7DDDBF15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E6C5-CD58-4D0D-9414-F306E976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49A7-547B-43C1-96C7-A8449F43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4BA6-A03A-4A3F-8C9A-B3E121DD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B407-167A-40C5-BBEB-8E317156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2D0-292B-4C85-99FE-6E9A7122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5F6F-E0B6-4816-8164-9033A650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DC34-AA9B-457A-A143-A3ADAA98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850D-DB4F-41A7-B923-FBB095D7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6DE8-08B9-4254-B7B1-A014F982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9E71-A847-4A71-B372-CE3D14F8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B476-F7AD-49BE-870E-29AD9BA3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404C-1F86-4E0B-BC6B-2051E7A0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4B96-4176-4B4C-A881-58F317A4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2DC4-06C0-4E5D-95C2-0D7F5C75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9607-4A28-4615-80D7-E574473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D0E-B2D0-4288-B1EB-D7A5ACF7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7C30-3BF9-4B49-9649-1FB1BD23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D61D-0F83-468A-A92B-79875EB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E03E8-257A-47B9-BCB2-9C42999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E427-8709-4F69-8CD6-A03BCD70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5452-FABE-4DF8-9809-F78E1EF0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9227E-38B5-4EF5-842D-EBEBF364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44BE-BC97-4529-AC7B-2C3395ED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5053-01C4-4E81-917D-0547A679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8EE7-0B64-4F4B-B817-97FA5A62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7BDB-D05C-4138-BB9D-11A2B47D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CAE-AEAF-4F7E-8CF2-8B4FFF0F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B931-3DF6-4A14-9C81-0C6C2CF7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E234-B3FF-47CF-A0FC-B5897150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54BC-75C7-43D5-8F35-73CE84D6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D768C-0D86-4305-89B6-9BDDAFD1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31D56-2FA3-441A-9992-9764590B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A0BBC-B88B-4E70-8FF3-FB018592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DEB6F-DAA3-4D0C-94D2-F959AC89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194E-851D-4E31-84ED-1C38C73C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14C65-1221-43AD-99C1-FB91023A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BE6E3-B09F-419F-A0F7-F7C0FEB2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8AB-7B43-4404-8495-28D36425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238E-E821-4700-AD36-F4E9EC04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7C838-6A0E-44CB-B533-165741C3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B764-AD3E-44BF-A2F0-4EE9859B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98B0C-EF55-48D6-84E9-D401FB53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8CCE6-2683-411D-84A7-20647417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6E8A1-B955-4F37-AA74-ACCD845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5DEEE-3009-4392-B89A-E6E6209E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1C25F-F608-41B2-B56B-7E1E185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2D44F-B917-4A92-911F-AE46311D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BB387-7E14-4B51-9AE3-DF80B467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50F-59C2-46D2-9D73-A27A39CF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C9DA5-57FF-4B92-92E1-A493FB25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4DFF2-E093-4C34-84FC-528D2086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A545B-BF17-4DC9-9DC0-BCDFA599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81AFD-586E-4732-AE02-FDF49B10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8008F-5D4E-4155-99BF-CFFE31FD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93E62-2F35-42BC-8044-2BE4368A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7FAA8-91E2-442C-902A-B563C9F7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5FB6-E1F6-4BE1-84CC-B689F47D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CD9C-4A48-4426-924E-867766C9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D20A5-A53C-4B96-A258-02F8890E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D20-C8F4-4F2F-B8CB-38F4BF9F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10F5-E658-4FFA-A7C5-2F0F78FC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E6B3-C6B9-4E15-BB95-038E1985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41087-7779-4A5A-99EF-BB58DD4C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414E2-44DF-4E30-A4F1-83D6FF1F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6070B-0200-4149-BDD4-96CC951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4AB8B-6B4B-4592-90BF-3FF3B412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CEBA0-129F-4A03-86B7-69A7451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BB4D4-8EB8-4F48-A945-FAB9CFC3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0AA2D-BAAE-4E4B-81D1-A49C546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678D-9B5B-478E-90AB-ED817A2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CA9-D88A-48FD-87A5-D4B89DD7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0DCE-D398-4A2F-AA55-B50942A4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1F742-91FE-4D3B-A559-DE5EB781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9D11D-408D-4EEE-8C55-CBA0DCB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B9558-3803-407F-B662-1BA3F580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FB70F-371C-479B-832C-E2970813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61F1-45FA-48BB-8620-DBF13036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298D-8D18-448F-970A-215C1408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3A044-E106-4D62-B061-D1438E8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F59EC-2BDE-4F95-B265-9816E395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4AA3D-7997-434F-8214-751E1D80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507-AAA7-4767-AF09-CE895BFC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1AE9-45EA-420E-AD8D-DFA465C2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A1816-5FF7-4ED8-ABE3-AC334C2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4655-4D2D-4CD8-92CC-EAE4453B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8E173-E6C6-42A4-B233-7BC497B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47A03-B116-4070-8EAD-A2A653FF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250FC-5C6D-4735-8C0D-5C752C3C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C0322-302F-435C-AAFF-8358D39F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58A12-12E5-4058-BAC6-2A2944E6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5BCB6-0DAC-456F-B19B-4DD8DAA6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DB299-2804-4BC3-8BB6-BD78D370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6D52-A13F-44A0-9357-5904CEA7932C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68CF-FF2B-4533-A5B5-A024F0FCDEE5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8318-6628-4DC3-9751-0B00A5421745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0718-A722-4871-8687-F0E97E90ECF3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B216-CDD0-4107-9C29-51617A9BF863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8138-E61E-4C91-8B2C-3B57E61CAEC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8FFD-3FB4-4951-BD1A-CC08521787F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3535-3331-4E86-A62C-2282B790E91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C36-EC47-4BEB-8BCB-52104CFEDB2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6.wmf"/><Relationship Id="rId6" Type="http://schemas.openxmlformats.org/officeDocument/2006/relationships/slide" Target="slide3.xml"/><Relationship Id="rId7" Type="http://schemas.openxmlformats.org/officeDocument/2006/relationships/image" Target="../media/image7.wmf"/><Relationship Id="rId8" Type="http://schemas.openxmlformats.org/officeDocument/2006/relationships/slide" Target="slide3.xml"/><Relationship Id="rId9" Type="http://schemas.openxmlformats.org/officeDocument/2006/relationships/image" Target="../media/image8.wmf"/><Relationship Id="rId10" Type="http://schemas.openxmlformats.org/officeDocument/2006/relationships/slide" Target="slide3.xml"/><Relationship Id="rId11" Type="http://schemas.openxmlformats.org/officeDocument/2006/relationships/image" Target="../media/image9.wmf"/><Relationship Id="rId12" Type="http://schemas.openxmlformats.org/officeDocument/2006/relationships/slide" Target="slide3.xml"/><Relationship Id="rId13" Type="http://schemas.openxmlformats.org/officeDocument/2006/relationships/image" Target="../media/image10.wmf"/><Relationship Id="rId14" Type="http://schemas.openxmlformats.org/officeDocument/2006/relationships/slide" Target="slide3.xml"/><Relationship Id="rId15" Type="http://schemas.openxmlformats.org/officeDocument/2006/relationships/image" Target="../media/image11.wmf"/><Relationship Id="rId16" Type="http://schemas.openxmlformats.org/officeDocument/2006/relationships/slide" Target="slide3.xml"/><Relationship Id="rId17" Type="http://schemas.openxmlformats.org/officeDocument/2006/relationships/image" Target="../media/image12.wmf"/><Relationship Id="rId18" Type="http://schemas.openxmlformats.org/officeDocument/2006/relationships/image" Target="../media/image4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" Target="slide4.xml"/><Relationship Id="rId8" Type="http://schemas.openxmlformats.org/officeDocument/2006/relationships/image" Target="../media/image7.wmf"/><Relationship Id="rId9" Type="http://schemas.openxmlformats.org/officeDocument/2006/relationships/slide" Target="slide4.xml"/><Relationship Id="rId10" Type="http://schemas.openxmlformats.org/officeDocument/2006/relationships/image" Target="../media/image8.wmf"/><Relationship Id="rId11" Type="http://schemas.openxmlformats.org/officeDocument/2006/relationships/slide" Target="slide4.xml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" Target="slide4.xml"/><Relationship Id="rId15" Type="http://schemas.openxmlformats.org/officeDocument/2006/relationships/image" Target="../media/image11.wmf"/><Relationship Id="rId16" Type="http://schemas.openxmlformats.org/officeDocument/2006/relationships/slide" Target="slide4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3.xml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5.xml"/><Relationship Id="rId7" Type="http://schemas.openxmlformats.org/officeDocument/2006/relationships/image" Target="../media/image7.wmf"/><Relationship Id="rId8" Type="http://schemas.openxmlformats.org/officeDocument/2006/relationships/slide" Target="slide5.xml"/><Relationship Id="rId9" Type="http://schemas.openxmlformats.org/officeDocument/2006/relationships/image" Target="../media/image8.wmf"/><Relationship Id="rId10" Type="http://schemas.openxmlformats.org/officeDocument/2006/relationships/slide" Target="slide5.xml"/><Relationship Id="rId11" Type="http://schemas.openxmlformats.org/officeDocument/2006/relationships/image" Target="../media/image9.wmf"/><Relationship Id="rId12" Type="http://schemas.openxmlformats.org/officeDocument/2006/relationships/slide" Target="slide5.xml"/><Relationship Id="rId13" Type="http://schemas.openxmlformats.org/officeDocument/2006/relationships/image" Target="../media/image10.wmf"/><Relationship Id="rId14" Type="http://schemas.openxmlformats.org/officeDocument/2006/relationships/slide" Target="slide5.xml"/><Relationship Id="rId15" Type="http://schemas.openxmlformats.org/officeDocument/2006/relationships/image" Target="../media/image11.wmf"/><Relationship Id="rId16" Type="http://schemas.openxmlformats.org/officeDocument/2006/relationships/slide" Target="slide5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4.xml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slide6.xml"/><Relationship Id="rId6" Type="http://schemas.openxmlformats.org/officeDocument/2006/relationships/image" Target="../media/image6.wmf"/><Relationship Id="rId7" Type="http://schemas.openxmlformats.org/officeDocument/2006/relationships/slide" Target="slide6.xml"/><Relationship Id="rId8" Type="http://schemas.openxmlformats.org/officeDocument/2006/relationships/image" Target="../media/image7.wmf"/><Relationship Id="rId9" Type="http://schemas.openxmlformats.org/officeDocument/2006/relationships/slide" Target="slide6.xml"/><Relationship Id="rId10" Type="http://schemas.openxmlformats.org/officeDocument/2006/relationships/image" Target="../media/image8.wmf"/><Relationship Id="rId11" Type="http://schemas.openxmlformats.org/officeDocument/2006/relationships/slide" Target="slide6.xml"/><Relationship Id="rId12" Type="http://schemas.openxmlformats.org/officeDocument/2006/relationships/image" Target="../media/image9.wmf"/><Relationship Id="rId13" Type="http://schemas.openxmlformats.org/officeDocument/2006/relationships/slide" Target="slide6.xml"/><Relationship Id="rId14" Type="http://schemas.openxmlformats.org/officeDocument/2006/relationships/image" Target="../media/image10.wmf"/><Relationship Id="rId15" Type="http://schemas.openxmlformats.org/officeDocument/2006/relationships/slide" Target="slide6.xml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5.xml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5.wmf"/><Relationship Id="rId5" Type="http://schemas.openxmlformats.org/officeDocument/2006/relationships/slide" Target="slide7.xml"/><Relationship Id="rId6" Type="http://schemas.openxmlformats.org/officeDocument/2006/relationships/image" Target="../media/image6.wmf"/><Relationship Id="rId7" Type="http://schemas.openxmlformats.org/officeDocument/2006/relationships/slide" Target="slide7.xml"/><Relationship Id="rId8" Type="http://schemas.openxmlformats.org/officeDocument/2006/relationships/image" Target="../media/image7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7.xml"/><Relationship Id="rId12" Type="http://schemas.openxmlformats.org/officeDocument/2006/relationships/image" Target="../media/image9.wmf"/><Relationship Id="rId13" Type="http://schemas.openxmlformats.org/officeDocument/2006/relationships/slide" Target="slide7.xml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slide" Target="slide7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6.xml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TextBox 3"/>
          <p:cNvGrpSpPr/>
          <p:nvPr/>
        </p:nvGrpSpPr>
        <p:grpSpPr>
          <a:xfrm>
            <a:off x="1182600" y="1073160"/>
            <a:ext cx="6693120" cy="2114640"/>
            <a:chOff x="1182600" y="1073160"/>
            <a:chExt cx="6693120" cy="2114640"/>
          </a:xfrm>
        </p:grpSpPr>
        <p:pic>
          <p:nvPicPr>
            <p:cNvPr id="400" name="TextBox 3" descr=""/>
            <p:cNvPicPr/>
            <p:nvPr/>
          </p:nvPicPr>
          <p:blipFill>
            <a:blip r:embed="rId1"/>
            <a:stretch/>
          </p:blipFill>
          <p:spPr>
            <a:xfrm>
              <a:off x="1182600" y="1073160"/>
              <a:ext cx="66931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285920" y="1285920"/>
              <a:ext cx="6491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вающая игр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Найди такой же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4"/>
          <p:cNvSpPr/>
          <p:nvPr/>
        </p:nvSpPr>
        <p:spPr>
          <a:xfrm>
            <a:off x="1466280" y="4071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Franklin Gothic Book"/>
              </a:rPr>
              <a:t>Цель: развитие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1071720" y="1428840"/>
            <a:ext cx="700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кажи в таблице  тот предм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орый изображен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ответ верный, ты услышишь аплодисмен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3" descr="J0215358.WMF"/>
          <p:cNvPicPr/>
          <p:nvPr/>
        </p:nvPicPr>
        <p:blipFill>
          <a:blip r:embed="rId1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J0215360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J0215361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29240" y="428616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2" descr="J0215358.WMF"/>
          <p:cNvPicPr/>
          <p:nvPr/>
        </p:nvPicPr>
        <p:blipFill>
          <a:blip r:embed="rId18"/>
          <a:stretch/>
        </p:blipFill>
        <p:spPr>
          <a:xfrm>
            <a:off x="857160" y="2214720"/>
            <a:ext cx="1627200" cy="2301840"/>
          </a:xfrm>
          <a:prstGeom prst="rect">
            <a:avLst/>
          </a:prstGeom>
          <a:ln w="0">
            <a:noFill/>
          </a:ln>
        </p:spPr>
      </p:pic>
      <p:pic>
        <p:nvPicPr>
          <p:cNvPr id="423" name="j0214098.wav" descr=""/>
          <p:cNvPicPr/>
          <p:nvPr/>
        </p:nvPicPr>
        <p:blipFill>
          <a:blip r:embed="rId19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4286160"/>
            <a:ext cx="1530000" cy="11304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0760" y="1214280"/>
            <a:ext cx="1149120" cy="1005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92880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414324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9" descr="J0215163.WMF"/>
          <p:cNvPicPr/>
          <p:nvPr/>
        </p:nvPicPr>
        <p:blipFill>
          <a:blip r:embed="rId13"/>
          <a:stretch/>
        </p:blipFill>
        <p:spPr>
          <a:xfrm>
            <a:off x="6572160" y="257184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86080" y="2714760"/>
            <a:ext cx="1201680" cy="1110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4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3" descr="J0215163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0040" y="2286000"/>
            <a:ext cx="225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4920" y="4214880"/>
            <a:ext cx="1530360" cy="1130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J0215361.WMF"/>
          <p:cNvPicPr/>
          <p:nvPr/>
        </p:nvPicPr>
        <p:blipFill>
          <a:blip r:embed="rId5"/>
          <a:stretch/>
        </p:blipFill>
        <p:spPr>
          <a:xfrm>
            <a:off x="3500280" y="442908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929120" y="271476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29240" y="1143000"/>
            <a:ext cx="1202040" cy="11113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0088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2" descr="J02153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5840" y="2143080"/>
            <a:ext cx="26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21488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29120" y="1214280"/>
            <a:ext cx="1149480" cy="10051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100008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00760" y="4286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929120" y="264312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20" descr="J0215161.WM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21" descr="J0215368.WMF"/>
          <p:cNvPicPr/>
          <p:nvPr/>
        </p:nvPicPr>
        <p:blipFill>
          <a:blip r:embed="rId17"/>
          <a:stretch/>
        </p:blipFill>
        <p:spPr>
          <a:xfrm>
            <a:off x="357192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8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23" descr="J0215368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42960" y="2000160"/>
            <a:ext cx="1901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45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J0215161.WMF"/>
          <p:cNvPicPr/>
          <p:nvPr/>
        </p:nvPicPr>
        <p:blipFill>
          <a:blip r:embed="rId15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0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2" descr="J02151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28760" y="2571840"/>
            <a:ext cx="2396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13" descr="J0215358.WMF"/>
          <p:cNvPicPr/>
          <p:nvPr/>
        </p:nvPicPr>
        <p:blipFill>
          <a:blip r:embed="rId1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4" descr="J0215360.WMF"/>
          <p:cNvPicPr/>
          <p:nvPr/>
        </p:nvPicPr>
        <p:blipFill>
          <a:blip r:embed="rId2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5" descr="J0215361.WMF"/>
          <p:cNvPicPr/>
          <p:nvPr/>
        </p:nvPicPr>
        <p:blipFill>
          <a:blip r:embed="rId3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6" descr="J0215362.WMF"/>
          <p:cNvPicPr/>
          <p:nvPr/>
        </p:nvPicPr>
        <p:blipFill>
          <a:blip r:embed="rId4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7" descr="J0215363.WMF"/>
          <p:cNvPicPr/>
          <p:nvPr/>
        </p:nvPicPr>
        <p:blipFill>
          <a:blip r:embed="rId5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8" descr="J0215155.WMF"/>
          <p:cNvPicPr/>
          <p:nvPr/>
        </p:nvPicPr>
        <p:blipFill>
          <a:blip r:embed="rId6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9" descr="J0215163.WMF"/>
          <p:cNvPicPr/>
          <p:nvPr/>
        </p:nvPicPr>
        <p:blipFill>
          <a:blip r:embed="rId7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0" descr="J0215161.WMF"/>
          <p:cNvPicPr/>
          <p:nvPr/>
        </p:nvPicPr>
        <p:blipFill>
          <a:blip r:embed="rId8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21" descr="J0215368.WMF"/>
          <p:cNvPicPr/>
          <p:nvPr/>
        </p:nvPicPr>
        <p:blipFill>
          <a:blip r:embed="rId9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22" name="j0214098.wav" descr=""/>
          <p:cNvPicPr/>
          <p:nvPr/>
        </p:nvPicPr>
        <p:blipFill>
          <a:blip r:embed="rId10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3" descr="J0215363.WMF"/>
          <p:cNvPicPr/>
          <p:nvPr/>
        </p:nvPicPr>
        <p:blipFill>
          <a:blip r:embed="rId11"/>
          <a:stretch/>
        </p:blipFill>
        <p:spPr>
          <a:xfrm>
            <a:off x="0" y="2571840"/>
            <a:ext cx="2543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83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84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2" descr=""/>
          <p:cNvPicPr/>
          <p:nvPr/>
        </p:nvPicPr>
        <p:blipFill>
          <a:blip r:embed="rId1"/>
          <a:stretch/>
        </p:blipFill>
        <p:spPr>
          <a:xfrm>
            <a:off x="2382840" y="1895400"/>
            <a:ext cx="3968640" cy="1451160"/>
          </a:xfrm>
          <a:prstGeom prst="rect">
            <a:avLst/>
          </a:prstGeom>
          <a:ln w="0">
            <a:noFill/>
          </a:ln>
        </p:spPr>
      </p:pic>
      <p:sp>
        <p:nvSpPr>
          <p:cNvPr id="525" name="TextBox 3"/>
          <p:cNvSpPr/>
          <p:nvPr/>
        </p:nvSpPr>
        <p:spPr>
          <a:xfrm>
            <a:off x="2128680" y="5072040"/>
            <a:ext cx="45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Автор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4:47:34Z</dcterms:created>
  <dc:creator>ОЕМ</dc:creator>
  <dc:description/>
  <dc:language>en-US</dc:language>
  <cp:lastModifiedBy>ОЕМ</cp:lastModifiedBy>
  <dcterms:modified xsi:type="dcterms:W3CDTF">2010-01-20T06:37:55Z</dcterms:modified>
  <cp:revision>15</cp:revision>
  <dc:subject/>
  <dc:title>Слайд 1</dc:title>
</cp:coreProperties>
</file>